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8EC-C53C-4CA6-9B31-EDE992F6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7CF-B477-429B-84A2-3B187406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7D3-C8EB-423F-A68B-6F9C2DE8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F32-5474-4CBB-837B-0BE08F7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25F0-F2C0-4A37-90BD-17AA3848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5E75-F430-43C5-AAF3-E723C30F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ADBC-7A9F-463D-B733-4121DE8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1515-E15E-4C2B-B91E-D9986BCB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157-500A-4236-8DE5-919895F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655F-C1EA-4A50-8C74-A7F785F8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461-82D3-4593-A00A-92323EF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3D9-63E4-4972-9B76-6DA2AD17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A61B-9339-4430-B236-915467B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CED-6478-4AA2-B3D3-8A484DB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96EF-8015-40B9-A42A-4E72F448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ED9C-1628-40B5-9F27-63388708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F27-210B-49F0-B034-4A3FF4E7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D4A-27C7-4AAB-B467-AEEB9514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754-38BC-49CE-B1E0-EE3F4FAF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597-F4AB-48F2-8C7C-5D394F57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02F-93AD-456E-9C78-DE4DA50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EFA-697E-4DAC-A36F-28F0BFC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25E-3F4E-4003-B16C-8C06E678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989-2610-4F3A-9456-BDC079C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01DE-975C-4B7D-A4E2-C35E49CFB3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96D9-42BD-4EAF-B9E4-0A9C4950A2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Java Workshop for Teachers 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  May 6, 2005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ief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soleWelcome.java and ConsoleWelcomeTest.java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, but very small, multi-file Java program (only two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a class file capable of producing objects of that class, plus another “driver class” that creates and uses an object of the firs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both files with the single com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javac ConsoleWelcomeTest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program with the com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java ConsoleWelcome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comeGUIApp.ja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GUI application program, illustr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grammer color cho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grammer font se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grammer choice of window si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grammer placement of text in th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gain a single-file program, but a later practice exercise asks you to convert it to a two-file program (and make some other changes as w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Java Applets vs. Java Application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is not a standalone program, but instead runs within a web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must be run via an HTML file which refers to the applet’s class file in an applet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can also be run by a utility called appletviewer that comes with the JDK (Java Development Kit), just like javac and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tviewer just shows the applet and ignores any HTML code in the HTM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have a main function, applets 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elcomeApplet.java and WelcomeApplet.htm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Applet.java shows the order in which three of the “built-in” methods of an applet are call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() is called to do whatever needs doing o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() is called after init() and at each “restart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() is called to draw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Applet.html contains an &lt;applet&gt; element that refers to the applet-containing file WelcomeApplet.class which is loaded and run by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llow-Up Practice Exerci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WelcomeConsoleTest.java to use the first two “command-line parameters” as the text of the welcome message and the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WelcomeGUIApp.java to a two-file program and choose another font, color scheme, and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WelcomeApplet.java so that the following command will run the apple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appletviewer WelcomeApplet.jav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ssuming WelcomeApplet.class is avail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tudentMarks1.java to 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tudentMarks6.java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of programs to illustrate incremental program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thing that works and does a “small version” of what your ultimate goal program will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each “iteration” add one or more new features that take you toward that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kind of program development is closer to the modern “extreme programming” approach than to the older “structured program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me of the things you will see in the StudentMarks*.java sequ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GUI interface with buttons and an area to displa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input from a file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“comparator” to change the “natural” order of a lis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programming (a brand new feature in Java 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lashScreen.ja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fun” application to promote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to position your application in the middle of the screen independently of the screen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andomly generat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sleep() method of the Thread class to generate a short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“keyboard listener” to terminate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Java Is and Is N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 full-fledged, powerful and very versatile object-oriented programming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 “sequel” to C++ and a “prequel” to Microsoft’s C #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not Java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is Java like and unlike what you may already know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is very similar to C and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deal with classes from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rite stand-alone programs (old-fashioned console, as well as new-fangled GUI) and also “applets” that run via HTML pages on the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tform-dependent java compiler produces a file of platform-independent “bytecodes” that are then interpreted by a platform-dependent java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5320" y="277560"/>
            <a:ext cx="706284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rly History of Ja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t Sun Microsystems (1990/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Gosling headed developmen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life as ‘oak’, was later renamed ‘Jav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consumer electron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erson, Inc. lost Time-Warne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orked well for internet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and HotJava (Web browser) formally announced (Sun World ’95, May 23 in San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0880" y="345960"/>
            <a:ext cx="7059600" cy="7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sion History of Ja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29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0 (1995) 212 classes in 8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1 (1997) 504 classes in 23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2 (1998) 1520 classes in 59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3 (2000) 1842 classes in 76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4 (2002) 2991 classes in 135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5.0 (2004) 3270 classes in ?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800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5.0 contains the first major changes in the language itself since version 1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0880" y="345600"/>
            <a:ext cx="7059600" cy="6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Java Language Featu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63480" y="1660680"/>
            <a:ext cx="74966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HelloWorld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Hello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 javac HelloWorld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command produc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loWorld.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interpreted by the following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 java Hello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5320" y="277560"/>
            <a:ext cx="706284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Java “Hello, world!”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me Hands-On Experi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console applications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ConApp.jav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Welcome.java and ConsoleWelcomeTest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UI application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GUIApp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Applet.java and WelcomeApple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comeConApp.ja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single-file “console program”, with text output to a “console window” (also called “the screen” or “the standard outpu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it with the com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javac WelcomeConApp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that you got a file call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ConApp.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at .class file with the com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java WelcomeCon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08T18:27:28Z</dcterms:created>
  <dc:creator>Porter Scobey</dc:creator>
  <dc:description/>
  <cp:keywords>java</cp:keywords>
  <dc:language>en-US</dc:language>
  <cp:lastModifiedBy>Porter Scobey</cp:lastModifiedBy>
  <cp:lastPrinted>1996-04-16T18:39:22Z</cp:lastPrinted>
  <dcterms:modified xsi:type="dcterms:W3CDTF">2005-05-03T19:08:15Z</dcterms:modified>
  <cp:revision>26</cp:revision>
  <dc:subject>java programming language</dc:subject>
  <dc:title>A First Taste of Java</dc:title>
</cp:coreProperties>
</file>